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92A-DD98-4E96-B320-364E5D34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9EA-BBF2-47C2-AD58-1D555EE8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E67-90E4-4EDD-AEAC-A15628C0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F65-3540-4BD0-B208-E2896916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9812-D8C0-4197-BCBE-F50E238A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DB0D-08D2-4203-99E2-BC02430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8D7E-1EE6-4AF7-B34D-CC2AA5DE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95D4-7DCB-4B21-BDCA-E56EC54C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9D09-7CDD-4257-8127-1C2F2DD4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862C-653D-4A83-B78C-9AAE519B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D493-01C1-4F25-94C6-1CC77D72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AE5-B082-4FF8-A567-03FBD669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7A47-79D1-410A-A575-704659E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BACD-451F-4238-BB2F-91674AF6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BB56-28CE-4CB3-AEBD-A4AC4E7F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2850-3448-4FD6-A22A-6DBBC019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7B96-168E-4DE5-9F26-4CC015E9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A75-2AE1-4BAE-A7CF-BB8D7AB5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79C-E88C-4B16-810D-1ADF19F1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692-355D-4ABC-B461-D9615AC8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9B6-891D-4059-97C6-89EA5ADB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A84-F96D-4F45-A69A-B7AB765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529-C071-47C9-8F11-8CE335F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B69-04BC-4771-B2B4-88B68D9D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B019-8E12-40F2-BA5D-3C81BCFAE26C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E3E-0CB9-4B6E-9986-AE9774882B2E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42A4-1992-4CF8-8BB5-8DEB7E90B070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1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52E0-B9C0-40F4-A249-4D49F696F0B0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132" descr="20777839-1_o"/>
          <p:cNvPicPr/>
          <p:nvPr/>
        </p:nvPicPr>
        <p:blipFill>
          <a:blip r:embed="rId1"/>
          <a:stretch/>
        </p:blipFill>
        <p:spPr>
          <a:xfrm>
            <a:off x="4648320" y="373392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5129"/>
          <p:cNvSpPr/>
          <p:nvPr/>
        </p:nvSpPr>
        <p:spPr>
          <a:xfrm>
            <a:off x="1447920" y="182880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28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 Do I Learn English?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15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3" name="文本框 33897"/>
          <p:cNvSpPr/>
          <p:nvPr/>
        </p:nvSpPr>
        <p:spPr>
          <a:xfrm>
            <a:off x="990720" y="26226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还有其他学习英语的好建议吗？请和同学们讨论一下，然后向大家汇报成果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59399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Success belongs to the persevering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坚持就是胜利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15" name="图片 59401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5940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0852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Do you like English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How do you learn English? Do you have any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od tips to learn English well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44035"/>
          <p:cNvSpPr/>
          <p:nvPr/>
        </p:nvSpPr>
        <p:spPr>
          <a:xfrm>
            <a:off x="5105520" y="3733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gazin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44047" descr="u=768896439,1660531636&amp;fm=23&amp;gp=0"/>
          <p:cNvPicPr/>
          <p:nvPr/>
        </p:nvPicPr>
        <p:blipFill>
          <a:blip r:embed="rId1"/>
          <a:stretch/>
        </p:blipFill>
        <p:spPr>
          <a:xfrm>
            <a:off x="1523880" y="190512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8131"/>
          <p:cNvSpPr/>
          <p:nvPr/>
        </p:nvSpPr>
        <p:spPr>
          <a:xfrm>
            <a:off x="541008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spap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图片 48135" descr="u=2183797962,1866153933&amp;fm=23&amp;gp=0"/>
          <p:cNvPicPr/>
          <p:nvPr/>
        </p:nvPicPr>
        <p:blipFill>
          <a:blip r:embed="rId1"/>
          <a:srcRect l="4499" t="3175" r="5524" b="3175"/>
          <a:stretch/>
        </p:blipFill>
        <p:spPr>
          <a:xfrm>
            <a:off x="1295280" y="1066680"/>
            <a:ext cx="3203640" cy="47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49155"/>
          <p:cNvSpPr/>
          <p:nvPr/>
        </p:nvSpPr>
        <p:spPr>
          <a:xfrm>
            <a:off x="3964680" y="525780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u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图片 49157" descr="u=3648994005,630070083&amp;fm=52&amp;gp=0"/>
          <p:cNvPicPr/>
          <p:nvPr/>
        </p:nvPicPr>
        <p:blipFill>
          <a:blip r:embed="rId1"/>
          <a:stretch/>
        </p:blipFill>
        <p:spPr>
          <a:xfrm>
            <a:off x="1447920" y="1523880"/>
            <a:ext cx="6019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51203" descr="L9787100043731"/>
          <p:cNvPicPr/>
          <p:nvPr/>
        </p:nvPicPr>
        <p:blipFill>
          <a:blip r:embed="rId1"/>
          <a:stretch/>
        </p:blipFill>
        <p:spPr>
          <a:xfrm>
            <a:off x="1447920" y="990720"/>
            <a:ext cx="3657600" cy="47178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51204"/>
          <p:cNvSpPr/>
          <p:nvPr/>
        </p:nvSpPr>
        <p:spPr>
          <a:xfrm>
            <a:off x="6004080" y="3013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ctionar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5361"/>
          <p:cNvSpPr/>
          <p:nvPr/>
        </p:nvSpPr>
        <p:spPr>
          <a:xfrm>
            <a:off x="83808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 I look them up in a dictionar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所以我在词典中查阅它们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文本框 15362"/>
          <p:cNvSpPr/>
          <p:nvPr/>
        </p:nvSpPr>
        <p:spPr>
          <a:xfrm>
            <a:off x="1219320" y="27892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u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（从词典、电话本中）查阅。如果跟代词，代词要放在中间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u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还可表示“向上看”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其他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af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照顾，照料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look as 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看上去好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around/round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四处看看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0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6385"/>
          <p:cNvSpPr/>
          <p:nvPr/>
        </p:nvSpPr>
        <p:spPr>
          <a:xfrm>
            <a:off x="91440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Don’t be afraid to make mistakes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别害怕犯错误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文本框 16386"/>
          <p:cNvSpPr/>
          <p:nvPr/>
        </p:nvSpPr>
        <p:spPr>
          <a:xfrm>
            <a:off x="1219320" y="1905120"/>
            <a:ext cx="73152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afraid to do 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害怕（恐怕）去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a mistake/mistake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犯错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is afraid to have exam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她害怕考试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ryone can make mistak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每个人都会犯错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819520" y="762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4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能帮我查个电话号码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help me _____ _____ a phone number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课后我们常说英语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often speak English ____ 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要嘲笑别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_____ _____ othe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文本框 37894"/>
          <p:cNvSpPr/>
          <p:nvPr/>
        </p:nvSpPr>
        <p:spPr>
          <a:xfrm>
            <a:off x="3828960" y="263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o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37899"/>
          <p:cNvSpPr/>
          <p:nvPr/>
        </p:nvSpPr>
        <p:spPr>
          <a:xfrm>
            <a:off x="4545000" y="376704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ft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37900"/>
          <p:cNvSpPr/>
          <p:nvPr/>
        </p:nvSpPr>
        <p:spPr>
          <a:xfrm>
            <a:off x="2341440" y="482292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ug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文本框 37901"/>
          <p:cNvSpPr/>
          <p:nvPr/>
        </p:nvSpPr>
        <p:spPr>
          <a:xfrm>
            <a:off x="3408480" y="4822920"/>
            <a:ext cx="18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矩形 37907"/>
          <p:cNvSpPr/>
          <p:nvPr/>
        </p:nvSpPr>
        <p:spPr>
          <a:xfrm>
            <a:off x="5334120" y="3767040"/>
            <a:ext cx="17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矩形 37908"/>
          <p:cNvSpPr/>
          <p:nvPr/>
        </p:nvSpPr>
        <p:spPr>
          <a:xfrm>
            <a:off x="4886280" y="2633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57:53Z</dcterms:created>
  <dc:creator/>
  <dc:description/>
  <dc:language>en-US</dc:language>
  <cp:lastModifiedBy>Administrator</cp:lastModifiedBy>
  <dcterms:modified xsi:type="dcterms:W3CDTF">2019-01-02T00:59:08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